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</p:sldMasterIdLst>
  <p:notesMasterIdLst>
    <p:notesMasterId r:id="rId37"/>
  </p:notes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  <p:sldId id="270" r:id="rId52"/>
    <p:sldId id="271" r:id="rId53"/>
    <p:sldId id="272" r:id="rId54"/>
    <p:sldId id="273" r:id="rId55"/>
    <p:sldId id="274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notesMaster" Target="notesMasters/notesMaster1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slide" Target="slides/slide15.xml"/><Relationship Id="rId53" Type="http://schemas.openxmlformats.org/officeDocument/2006/relationships/slide" Target="slides/slide16.xml"/><Relationship Id="rId54" Type="http://schemas.openxmlformats.org/officeDocument/2006/relationships/slide" Target="slides/slide17.xml"/><Relationship Id="rId55" Type="http://schemas.openxmlformats.org/officeDocument/2006/relationships/slide" Target="slides/slide18.xml"/><Relationship Id="rId56" Type="http://schemas.openxmlformats.org/officeDocument/2006/relationships/slide" Target="slides/slide1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 type="dt" idx="10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 type="ftr" idx="10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6"/>
          <p:cNvSpPr>
            <a:spLocks noGrp="1"/>
          </p:cNvSpPr>
          <p:nvPr>
            <p:ph type="sldNum" idx="10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C6DD-9DB6-4230-91D4-F85F68714FBF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D0EE-175E-485B-AFD3-664B265BF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BA4C-3F53-48F3-AD1B-CCE877DA0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8BA2-6FC4-4E15-A0F3-CCDDC3B5CA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DAB3-CAB7-4920-BDA9-58DAFFCD4A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A6E8-CE3B-4295-B361-533F2EBF3D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6BA1-2B55-41DB-9204-B300BA054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BB8A-9720-4796-98C1-C403244796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16BA-EFAB-4108-893D-51BABB356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A957-A896-43DC-BF3E-580637A7E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0D1E-5F65-49E2-B385-3E9C20BD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6839-6DC0-4C5A-BDC7-0601FFED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B0F04-931C-4998-BE59-F85A7998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66717-308D-4ED7-BE85-50599B54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1D86A-20A0-4F06-B454-C4F959F2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41C16-0DE4-4BA5-AA42-4C89A673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3132E-1DF0-4297-9504-A89268B2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DA990-C3C9-4105-9965-B772C4BA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8ADD2-9E5C-42C2-868D-BEF5BC8E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C797E-E9C9-4096-B134-2D6D948C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DDCB7-AE41-4166-B833-A3BF2D47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D35AB-90CC-473E-8BA9-00A6E60A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14B7-65FC-4D49-B431-1273D882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D3BBC-BE6C-4059-93C1-7719BBA7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2813C-2295-4781-BAE4-37F67F13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4CB34-6E5A-43D6-9CB0-893F66BF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7E170-32ED-419C-90E2-2D79A563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AAAD3-ABC1-4E9A-ABF5-56D8C9FD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98142-18B9-4475-AFB0-A45697C9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811D9-08AE-4164-90C2-D6514433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A9B19-BA45-4680-9B43-EBC0B911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B1851-7C0F-431F-94AB-BBB179BD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ACD46-FCDF-4F9C-AC26-8D8F5FEA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B43B-09E7-4FC2-A8F0-B91D6724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5E035-2DEE-490F-AD50-CDFE2863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C2A27C-3182-4147-A294-9268752D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06E6DA-D513-45B1-8E55-CDA38108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F2A630-CE98-480E-B1A6-429E4908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1EA6DD-4347-4BB4-B2DD-D4625646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0BDB54-8705-4A5C-A25D-46184082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823A0F-2237-48B8-893C-9445B8D0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56B62E-DD24-4D91-ADA5-43FEE8E3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A7E03C-1ABA-4332-AB74-92F0D92C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8447FE-CCC2-44DB-923C-72CAAEB4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B98B-9506-42E4-8E04-1345E316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FCAC16-B8B1-4145-B8DD-6DCC7EF1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DDA6C2-3676-494A-91B3-04CFA394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155FB6-5E30-4AEF-BC43-CCE3B5A5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7DECA-AE13-4856-A5D3-C98A6FC3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625C0-4C95-4148-871A-566CC2E5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174BD-C457-4FA4-A979-1CA08245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91B4B-30C9-4D40-B2C3-C0489813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B5925-F16D-4A88-9421-B4F0A3C0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D220B-6046-4F55-AB3F-425BE7FA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92048-F107-4963-83C8-78F6AF7E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096D-21D5-4701-8198-9E378762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3C0AB-8C15-4B8E-BA02-9383A366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ACA5A-1A0A-432C-83D1-75CC7B48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7EA0F-1607-4D6A-9F41-23F3DE2E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BDFE5-F88D-490C-AD48-C771901A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6BAFE-3645-4590-89E3-EDAE8F19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FAA935-3167-42BB-A580-055FD772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B1D7B4-EFA7-4FB1-A26A-7158F62D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13AC0B-0316-47BD-AD06-360124D8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387792-4CD2-46B2-B9A1-56A40C32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B5C480-BB89-4FC7-8A4D-B5B6FFB1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CF67-5B86-41FF-AF3A-FAA54B06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2B2DBF-565D-4BDC-B6AC-D64B1217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6C5231-9AE0-4DB0-81AF-62D29F8D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8B3FC9-74C2-4679-88DC-F7C6DFA7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D6FE16-83FA-4401-B9E4-EB0A235D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F8AD6B-9169-4A8B-A3FC-59DB1C9C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198214-5A5D-42F1-ABD1-DE7915D3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B30018-76ED-4D64-BD35-6DB795EC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7F4935-E5B3-4CC4-A10C-78151845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9B770F-9DC7-47BD-AFCC-7503C4DE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9BD1DB-AD94-4B10-9E68-EF6B1234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0C32-3458-44D9-8AFB-E70814B2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7797CE-9612-4851-99F8-A7F62803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A70CAE-67D4-4310-B1BA-864B421C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5AECEC-B2EF-4A75-AB67-F0FEF01D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AF479C-664B-45CA-9E81-8ACAB531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A2404C-8049-4CC0-9552-B786800F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90610A-F896-42C3-8353-AB3F0903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3B1ECB-471E-4268-AFDF-D4C56317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C011A6-CD44-40D7-9030-355E094D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626C82-9D8D-4840-8538-201EE22E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A5512A-4D10-4F76-A466-53787B07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0BF8-E8A9-4530-A932-53E049E2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CBF4CC-75CF-4D3E-88BD-EA4B383B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810DDD-D5F4-4C1B-AADC-D89A6FE0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52B9BC-9565-4406-A8B9-7731C19F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CB4616-24A2-43C1-A59B-57E87F58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72E10B-6EAD-4130-A496-72084EFB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842589-B586-4DB9-AACF-3845B4FC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150E17-B014-4491-B118-E4545A09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2A60D7-9CBE-431F-A912-168B7A65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BF0BE5-4944-445D-AA83-A255840C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2B7449-C9F9-41D9-998D-B2179B47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A2F6-C7CA-45D4-A80E-D3749553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D0CE4E-E588-400B-A1F5-65E0F8C9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6FFE3E-79CB-4DC6-B8ED-D98910FA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86D8F8-49EE-46C9-BD39-27843B0B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B2D45B-1192-4FA2-A6EA-462D935B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915F4D-E089-4512-B4E6-3DB9CF9C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AF9005-A457-4A8B-9CC2-69FD9E8D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DD5A8A-C0A1-4173-9923-35489931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49E178-9005-40CC-9264-2EC8FB4F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7CC506-0B6D-482E-98D2-6E4B38F4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467E55-EC42-42C2-9B48-072F969A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7A78-020F-4AA2-8CFD-55A851C4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E30F51-F32E-4E5C-A319-49200ADF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F5BF7A-08C2-44AF-B914-29B094E8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AF12E1-BCB2-42FF-87F8-CFD957A2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E73C0E4-8122-48EC-B71F-1303BB34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4AAE7AC-CD0B-4C07-A692-68CB87E6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A306E03-2B86-47F7-BE89-7A96B773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FF48F0E-D6FE-4AA0-AE29-6E424543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D660FB2-9DC5-458E-857C-0A179EC1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142EF21-4F77-4CE5-B3EE-FA7DE8A0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5C40A2A-9892-4BA0-A0A6-DC20787F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D107-5AB9-42FA-B010-83D62EAF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4FC6-BC2F-406C-98F7-A0F10A43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B302CE6-4436-436E-8304-1EC97FC1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41EAE5C-575A-4848-ADA4-3E6C8B06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7C5B1F4-8F4A-4DF6-A55C-2E8188A6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E0FA9B8-84ED-4B1D-B833-733702FC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4F486BF-8EFB-46FC-9768-A0247E37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B401DB1-BB95-4031-AA61-95044262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E755184-C5EF-4B12-91D2-1C150FBC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406DC8D-4E29-41B9-BAD2-4DE1D539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ABC326A-975A-4F38-813C-A025C2DD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8AEC359-D193-4AA6-B4BB-3C4045EA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F134-92A9-40BC-8140-4F256759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68C5A8A-EC4D-4A03-858F-B296CA27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86A49DA-A6B2-4532-BF79-3043B002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B6DCA1F-F39F-4A92-8034-5D06972E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498C332-05CC-451B-BE40-09CB12A0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A29EAC0-6ECE-4465-8162-D3BFD0C0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B70EEA5-25A9-4B79-BC3B-284BEA05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DD809CD-E36C-4605-B98A-63DC8888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35B1B5-B8B6-4FA8-BCDE-1E995CD7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F9012F-63AA-4873-B80B-D6032728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49B4AB-A747-40DF-9F9A-95257380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B61D-4F3E-4E33-A82A-5110BB46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7068F6-C0DA-4523-ACF8-674FE9AD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255747-5F3D-4BD5-BF25-102DE6B7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CE0AAA-F119-4470-B7A8-DBBE1417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443697-17F2-4DED-B358-8A6EDD8D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619C9F-F412-45E6-A87E-5C28A99A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85595C-3937-4CCD-95B8-9900FE80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915EED-1D6B-4836-A9F5-BB2EF61D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601849-7599-445B-A4EB-44014EC2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4E4DDB-C757-477C-8284-EEFC65DB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C416CC-7BD5-4A32-A500-017A3793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A445-5FEA-4C9A-B644-D7DE1505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F3250C-97AC-4949-B6AB-04B93668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BEFE7F-8E50-48B8-A6B5-557760FB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E99590-8923-4EC4-AD23-8F79DA1C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D3AD54-DD3B-4BF0-ABB5-3F210700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C6399F-8EA0-49CD-A2B1-F680DB64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FDF32A-590A-4EE1-AB2F-DA08A073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4FE70E-2AF2-4AB3-8CA2-0BDDA177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F83957-189D-4342-8BCE-D8C8EBC1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CC1B73-1F15-4364-AD22-D2ECFF36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4564AF-020A-4AAE-9ED2-44A1121F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AD64-0A64-4412-8569-E67F9A18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70A688-FD60-4779-A9FE-C11FCE1C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232442-7E69-45ED-B383-9D78D02E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A70C55-2471-4962-98EB-C0D9B6A6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86892F-CA53-4502-A2C8-343F73E7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5D1253-36EC-4DAD-BAA1-2B97CC6B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73B1AA-81A4-401F-BC23-FFBDB471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240049-7DA7-4123-9542-F253153B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90AC1E-EA02-409A-A450-AB23E6BA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F20BAA-F9DC-47E5-85BB-9950E96D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A635B7-E90D-4C66-BF5F-594C2109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D51A7-36C1-4836-9C72-8AEFE253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2B622F-A533-406B-9B01-AC376089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125633-4735-48A7-A5CA-E2658995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F07C13-A065-48B0-A7A1-95292DA8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625743-A10B-4764-B7DA-76E2301F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18F58E-07CB-4AFD-AC91-541060F4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51B783-9D81-45A8-A90D-724E894F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44B35B-06CB-468A-9283-46C272ED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33CD29-B71D-41C0-A311-14C42E8B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7FE665-6D1B-4CE0-B405-51354E54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BEAD45-4E60-48BE-A65E-27FB09D6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8260E-960D-4D0B-A16D-AC8BEE8C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A8489E-EB79-429F-A32E-8E87A950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DA0146-C4B3-4F21-8E97-366CEEEB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F22A4F-2956-4FB8-83EA-D19659F3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CCFAC8-519F-4BC7-8DE6-7F1CE35E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D000C5-1ED3-4F51-A8FE-6F6990F0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8EDD15-8A4B-4316-828F-6F1CA154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8CBF59-3834-48E1-9B8D-8CA12CAD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CDEE75-8255-425B-90D7-5D55653E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626884-45A4-4392-BA99-5C967E93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75A012-1FEE-4343-85AC-0F27E70C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10E22-F630-44E6-8B2D-393AB9C4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FAEB7F-124E-4642-AB19-6E2195A7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D22CD1-1F37-42B9-981B-07FEB22A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889DDF-EF58-4425-90FB-C822CFC7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1A2C00-E237-4BBF-90C0-ECE2FC25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ECA731-633D-47E4-ABDD-05FE2C16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C61A4C-49A0-40D3-BC25-61F2A6EE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4DE609-48AD-41A4-842C-1744CE02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1072D0-0EDD-4D94-A086-109DEC38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997C3B-6907-4EDC-A58C-9A9984A6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29EFB8-A317-4F7D-9ACE-0F017052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BB5A1-BF33-4623-A7D6-85628BB9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9DA85C-9E1A-4D3D-A386-76780654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6BE251-9D84-4883-AA28-E148F6F3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BDAFE9-E9A5-46E6-813B-5EBDB912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3D62C3-F33A-4CBD-987F-CD9DAE27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36BEFB-52AB-4CF8-A62C-1EE45B66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32A6E6-44D8-499B-899F-D9A11EB9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DEDB19-CE0D-4776-A13D-6CC05728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E43E58-A39C-4855-9D5D-AD3CE25D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7190B2-D1A3-477A-B203-57645E315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EE027B-FBA6-44E3-8E78-85000043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3E5AD-12A9-40EB-B618-5F20949E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1FB882-5A37-4A75-ACFB-E4EFA65D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75C597-6BDE-42B3-8176-324FF067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CB603C-E83F-4622-B4DB-CD3EE96C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10F348-8F13-4A28-B53B-FA409346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F63796-7AA1-4378-ACD6-17197E4C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C3EAB7-5C54-49C8-8443-8C47FBC6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2F10B6-0F36-4C15-88BE-BC305F8C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178C78-F44A-41FF-9D0D-238E685B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538FFF-65B5-48EB-A564-844DE584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EB9F79-FF26-410F-9C96-7631A325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E26B-D952-403A-BFE6-B6B3B2BA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3681C-EE28-4EAA-8985-43C54B40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3490BE-2130-4A09-B52B-67E7AC77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02F8100-C1A5-4BF5-89A1-384E0BF4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A76B991-16E5-48B1-9F03-77A64DFC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8F5C4D5-109B-4FCA-B255-ACE65335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7F12B15-F86D-442D-9905-11A969CE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2275DA7-9214-4D66-9D07-6D6B4E6D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94458B6-25F0-412E-82B4-EDBFF33A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5A96DAA-B65B-47ED-A620-F1FEF6CC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5EF0143-378B-4234-8B87-91A977DB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CD21866-7B78-4C5C-BF13-6154563A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0872B-6822-48C7-A06D-A38DC7F9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ADB2FC2-3EB7-4822-B410-61A3F2FF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5626500-29AB-45C8-BFB7-E6E1EF74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835764F-61F6-4E4A-BF68-7C30ABA2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37C9BDB-A4D6-4279-9A1D-BDBCFB20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6A9292C-27CC-48B9-A9CC-53EEEE4E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B757610-C83B-4DA8-8987-242AC3B3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5EF4C39-C9C8-4D0E-8AB8-59BB078A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12F7B5D-7BEE-4C87-AD85-B7388830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EC53FAB-7F68-4F09-802C-FC8EF006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5504633-247E-4355-AA0B-FBE96E3D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83E2E-4116-4657-9FD5-59B106DB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48E2D62-1ACF-42E6-8D54-9E51CE2B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EDCC1EC-D370-47CD-ACF2-0FA6F94B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51CF663-0424-4378-A523-D3AB5408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6BCC911-4E8C-4DB2-A07B-346F92388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7DCC381-A043-4316-805A-E5E27F50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4FD82B-BDB5-4DED-92DE-D7CD4D4A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57D620-06FD-4A39-944A-4AB6A60E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5E03C8-F255-465A-B327-569CC126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C811FD-3615-45D8-9B05-C19DE3E3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84A466-AA3E-4134-8E37-A884F4AD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88493-A97E-40E8-A329-93D18EEE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5654A9-883B-48E5-B62A-2084A109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24E202-27D7-43A5-BE1D-AE6B06BC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A677DA-C932-4716-8C6D-48F17BB5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DF6509-E1CD-4AFC-BD6A-27000318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2811F9-F96E-4D6A-8882-08150E6E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648076-50C5-441E-BC6B-8DA70ADB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889202-B579-4535-B078-6EB22060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27204EF-EFA2-4EC3-B900-5BD0131F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E14CCF6-132D-443E-A6F7-C9759E6C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6369DE6-9513-4EED-B421-77AE786F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1335C-8C61-464C-B0C6-F1F42FDC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11F8F82-E558-4794-B0A8-79EC2394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03D2676-D787-4609-8669-09506C2C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E8FB0A2-345E-4250-AC54-C2049A64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CE74BA5-1253-448E-8722-6AC13F07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908541E-868A-4314-9CE0-3116DF53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27CE161-1005-4FBD-A104-FE210805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17A5C50-1E64-4DD3-8B95-5AD9BCB9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62CB472-4264-4E8F-B817-718CCE90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39FA1B6-A453-43BB-8826-834451F9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9CF093-4B24-464F-8064-81DB6509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F5F16-14F3-47BA-B2BC-64CAF8F0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F9B6E1-2331-4F19-9640-7C2EC521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2E32DE-FDE0-4C1E-97DF-7EC27A82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BCB1411-C640-47E8-A9D8-F724A6EA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925A0BC-CE6E-443F-9C70-9D938C64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94308B-D87A-4147-93EA-FD6E67E7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C99593-5936-4906-A054-FBF35F29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5ABD021-DE81-4AD7-A731-2BF9B6F4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BA234CD-47EC-445F-BBFC-52F0697B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4CC0EE7-D221-42DD-9EF9-DD3C0F49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164E42-62D9-4B71-AFE6-46E3C350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C8735-3C38-4535-BE39-BCCA44FA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12330E-1D2F-44EB-90AB-691AD747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B193FA-966F-4E93-BA2E-25EA2F45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6333030-1B45-44EF-9B8E-A73C1D66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37EE850-F356-4284-907C-9A51174D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67AC6F3-8E0E-44E4-A8C8-509A25B9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4B6575-EA10-425C-A509-D273CFE1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DBA588-56B4-4B31-B1A2-E0236358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70E84F-C538-4AC8-8EDC-908BEAEC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D5E39D-A8F8-4ADB-A749-9B2AEABD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94C5A9-E5E3-41BC-84FC-47A547ED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1BF51-B624-4309-9D76-2FE402C4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323C253-124B-4860-AEFB-29B3157D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5C9C1CC-3B1F-4EA1-A087-3E5F68BC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C99CD18-0709-4AF0-809B-E3A326D9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36E48D-0077-490C-8738-9D3B6759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D87C182-FC1B-42CA-A7FF-1E02A7CE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7B3FC08-784F-4BF0-A266-78816B42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B6EC790-97DE-4AB1-84F9-8EC3ABAC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2C0FA6-49DB-470D-A35C-678A6F38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288027D-5C0C-4600-A147-C2391E55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AA032ED-09D9-4014-B3E9-E05010AA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04F6B-17A6-469F-82F6-64F35BB2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C264567-3D0B-4973-8D55-2CAC8671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931563C-539E-4252-8655-77782909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19A2FDF-527B-4CEA-AE2B-51EBA870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DE19C5A-0782-4480-AB83-1D2C9958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2C98B5F-61C7-4D7A-AE39-84E86147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A102D48-9DE7-4C35-81BD-E00BE09D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BF1A981-5771-4EA8-AE33-104A3318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BB4639E-9E64-4DF3-AB6B-BA6DAA9A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3BF4E34-9FE0-4F36-9B07-3109451E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AB52813-CE3E-4441-97B8-D8B3131F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89036-CD3E-4CD9-A589-D8676789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D672222-A3F4-4B1C-A6AD-14416CCF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F7DAB22-140F-4D9F-B239-E25C0B9E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818AE2A-D771-4550-972B-D48F66E4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E1BD6DF-B43B-4A98-A442-DB57B6E7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A84E9E1-5E17-43F5-A89C-0377B5F0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569DDF5-6E61-4312-AC48-1F37E2C9A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A6D8ED8-B4F8-417A-B824-7BDE90D7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D98ECD5-4862-4293-9871-2E01CD9A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A142D65-617B-49AE-B8FD-6823E972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1D5087-15FE-4445-9FE2-A8AB59CA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A45F-3118-4879-960A-B7F4204F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C719A-C89F-4726-B1BA-92ABC258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5E98393-8006-4221-807A-1CA0606E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61355FE-725B-440E-A306-C311CC66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8DD851B-3487-4D18-A0B0-07BCC8E5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C6A8915-317B-4C23-B1CA-E993DD78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C952A40-6D78-4D3A-B362-EEA6E86B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9E091C4-7F94-450D-B076-CBD0E155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DE917B2-1D76-4D1B-ADC4-C037E4EC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C9924A4-A266-45CF-9390-B73BCDEE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5A0881B-4BA9-4B75-9F13-C3D06406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95E4F71-6048-4B55-9E9A-CDF6F18F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45B85-49DD-4243-B892-E933360B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FA61BD9-B350-47C1-AA68-C782668D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7F12064-58BB-44EE-BA36-5EC4199A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540D3B0-B50C-4953-8243-1F72D18C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ED0102D-1F04-4150-B5E8-F1741C38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E8ED7FA-70E3-47EB-B926-0B210EF9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22E432B-63FF-4DF2-AAE3-A63C085E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3733B47-028C-4FFE-ABEB-6819604F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AAC5A34-E407-4CC6-8459-57230E63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3E8A9AB-7932-4BC5-95F7-9D198147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46DC718-9B32-44ED-BA1C-4910AE4B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69053-2319-46FB-BC9E-C9A5EF50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BDB6F60-4C20-4F8E-818A-C0155553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749F2-9A73-4567-B095-E30878D3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19C4A-D393-45DB-AF22-0A0F070E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7EB59-CFFB-4CB5-B3B1-84AB0F1E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B3DF4-47D9-48D4-800D-6CBA29D4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C2041-101B-4F8E-9011-87C4CEBD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BB95C-DB3C-471C-8BC3-FD1C8CB3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BCA9C-BF57-4643-B3DB-06A1CB96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6E95-09F3-4E98-BED2-248F0217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B0E8C-D1BC-47EC-A4F6-AAE16471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317BF-A80F-43D3-99E5-8F4AC854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1B66A-EEB2-4597-AA35-ADEBD4E5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057D7-96FD-4D2B-84E6-7ADF92C1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432C7-7AD2-42B0-97A3-B28A6618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3590B-A723-46C4-A374-D212FB3D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F867B-BB6F-409C-AA10-C4F4B318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66580-EB28-42E9-A282-03DE46A1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87F88-7948-47D4-8B5C-458AD967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47403-5197-4589-8CBF-C6DD59DD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9823-AFBC-44BB-8755-22844904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8F083-EE7B-4AC5-94F5-C60ADE32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CF41F-E89D-48AD-9EFD-AD9CBD96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B7B6B-F2D0-4DC4-AF90-E4BE361E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F1C01-5671-4B8A-854F-BE84CFAC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8CA13-684E-410A-ACA1-8AA2BF70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8AF72-AA13-4A6B-BBB9-0E6C8C44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499BC-6FB6-48AA-9AF5-93BE3D3B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D2030-B6A2-4462-AD5F-4949E252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776F7-1005-41EF-810B-6587F3B4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A3A56-CA0B-4E3C-BF98-641957BF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1204-D8E5-45B8-89FD-87F2244E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DFC04-D690-478C-9393-34A48873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5CA0F-C7B1-4303-86A0-6CD86756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4DE9E-B5E4-45B3-9FB9-FEABC94C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2BD61-E8F2-4F06-A5B0-F384968B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E25E0-76E6-48A5-A310-8F58DD3D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982EB-EFDE-4C80-9F9F-9AFC20C3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B9797-6484-44F1-9CD7-F420CFE8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428BA-3682-4BFC-8E89-67D313FC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EC626-546A-4A5E-8974-996BC91A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B8558-D186-4D11-BF6F-16130D9E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89B4-E75D-4CE3-9295-77C6A1D4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0459C-5A8F-4970-A91C-CF93295C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2399B-6414-42DD-957D-F8E4F6A3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C130F-2944-4F14-9221-249A9484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9EEFA-42DB-40E6-B3B3-A8F02CD9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00299-0602-4187-9F99-FC00012D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6FCE7-7C88-4548-987D-BD9C6FBBC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C5F98-D138-4DCA-AE0F-7C03ECED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22B2D-E7F5-4F2E-B9E5-9787750D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BDE9D-5346-4AF0-A78D-6E501FD9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9DE69-920A-4EBD-A55A-4CB77DDA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9055-054A-4C38-99BF-F98CE871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1D507-41F4-4269-9AC1-21B41788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37F2E-51E6-481F-ACB0-5F257FFB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96931-2D40-43AC-ADDB-2C959013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F2A9A-9D21-45A3-8DB9-0AC3108D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D791C-3D46-4D94-852C-D7FB8D6E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7DA8E-0080-432D-A869-3A761DE5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9CF6B-DBFD-4C63-BAFD-DC514DAB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BF955-AC5A-414A-83C6-1D240975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7F9DD-A8E9-4CE3-98A6-779FCFC1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E554F-2A7B-4113-8215-DFF59200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7409-1A26-480E-B653-CC83A058A5D7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011E-3354-4159-8ACB-A8612C7DEF57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48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sldNum" idx="32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2F87-3922-41CC-80A4-9ADE75C28BBA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33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92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4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50F7-251C-4172-90DD-2B42EDF0D14F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7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38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E12E-DE06-474D-A06B-05911F485A43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39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57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4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4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42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EDDE-4C36-4381-8D56-780C9D281CCD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624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6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0A07-6C82-48BB-AC05-D30363131304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670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2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4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4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4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F646-0754-4647-A289-3AA3C7C9B886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49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sldNum" idx="50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08F0-BE84-4552-983B-5454483F4C62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ftr" idx="51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52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sldNum" idx="53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992F-D2CF-44E1-9A87-9D34ADEAAD00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ftr" idx="54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5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5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57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7D3D-FCD5-4388-B4CD-7F954DF4CD62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4FB6-14A0-4B6F-AD2E-FA6B46215FE7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5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5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0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FBAE-5E02-4FA6-8A73-4EADE22A7443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ftr" idx="6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 type="dt" idx="6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 type="sldNum" idx="63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DFE9-247D-4A8A-B71F-53FCD4FB8AB7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dt" idx="64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ftr" idx="6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sldNum" idx="6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EE9E-A3D9-478F-BCDC-73F9D5B7C8F6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dt" idx="6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 type="ftr" idx="68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 type="sldNum" idx="69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B2C9-06F5-4275-A002-72F42CB38C0E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 type="dt" idx="7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 type="ftr" idx="7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 type="sldNum" idx="72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357C-6EBC-4358-B233-0FCB6C8BD10B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 type="dt" idx="7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 type="ftr" idx="7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 type="sldNum" idx="75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8D62-3493-49AC-8D17-4112D4A4AC16}" type="slidenum">
              <a:rPr b="0" lang="en-A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 type="sldNum" idx="76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F076-29A7-4FB8-A377-2D58F7E003F6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 type="dt" idx="7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 type="ftr" idx="78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 type="sldNum" idx="79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0E86-DFFA-4DDB-BDFA-6DA40C0F261F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 type="dt" idx="80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 type="ftr" idx="81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 type="dt" idx="8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 type="ftr" idx="8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 type="sldNum" idx="84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4509-7CFE-4BCC-995C-9D50BFA3D31E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sldNum" idx="85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198A-A2E1-4A85-B271-5899DE909412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dt" idx="8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ftr" idx="8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5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A1B6-6449-4137-A44E-4D29046F0AEC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88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89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90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B814-FE6E-4C66-B9D1-DD35E529AD11}" type="slidenum">
              <a:rPr b="0" lang="en-A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9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9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9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A67E-AEA1-4310-89A8-38BF29419D40}" type="slidenum">
              <a:rPr b="0" lang="en-A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9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9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9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0B5B-E710-4FCC-BFFC-AE9BA4305289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 type="dt" idx="9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 type="ftr" idx="9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 type="sldNum" idx="9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57ED-3087-4A09-BDF7-08DED6761E5E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 type="dt" idx="100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 type="ftr" idx="101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 type="sldNum" idx="102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F935-D041-4E1C-80FA-9504E306DBD8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 type="dt" idx="10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 type="ftr" idx="104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 type="sldNum" idx="10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8C40-7FF7-4D71-BBB2-75671E4B2F60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dt" idx="1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ftr" idx="1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12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1D1A-4F65-4190-89C2-908A439D4316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C913-505E-4645-8D1A-4AAB0BAF689F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B71A-049A-4AD4-AB88-74E41D763D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4868-8B3D-4F7C-924E-71BB44F546BB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9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31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2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ABDC-EFA9-445E-A844-56975AA48E0A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69E3-C2A7-41AD-99EC-F5504634EAE3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Franklin Gothic Book"/>
              </a:rPr>
              <a:t>CYCLING OF CARBON ATOM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bon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Freeform 3"/>
          <p:cNvSpPr/>
          <p:nvPr/>
        </p:nvSpPr>
        <p:spPr>
          <a:xfrm>
            <a:off x="1211400" y="3809880"/>
            <a:ext cx="7932600" cy="2806920"/>
          </a:xfrm>
          <a:prstGeom prst="pie">
            <a:avLst/>
          </a:prstGeom>
          <a:solidFill>
            <a:srgbClr val="d2a9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Freeform 4"/>
          <p:cNvSpPr/>
          <p:nvPr/>
        </p:nvSpPr>
        <p:spPr>
          <a:xfrm>
            <a:off x="0" y="5181480"/>
            <a:ext cx="5486400" cy="144792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AutoShape 5"/>
          <p:cNvSpPr/>
          <p:nvPr/>
        </p:nvSpPr>
        <p:spPr>
          <a:xfrm>
            <a:off x="2209680" y="1676520"/>
            <a:ext cx="1828800" cy="1066680"/>
          </a:xfrm>
          <a:prstGeom prst="cloudCallout">
            <a:avLst>
              <a:gd name="adj1" fmla="val -46875"/>
              <a:gd name="adj2" fmla="val 18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AutoShape 6"/>
          <p:cNvSpPr/>
          <p:nvPr/>
        </p:nvSpPr>
        <p:spPr>
          <a:xfrm>
            <a:off x="685800" y="1828800"/>
            <a:ext cx="1828800" cy="1066680"/>
          </a:xfrm>
          <a:prstGeom prst="cloudCallout">
            <a:avLst>
              <a:gd name="adj1" fmla="val -46875"/>
              <a:gd name="adj2" fmla="val 18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5" name="Group 7"/>
          <p:cNvGrpSpPr/>
          <p:nvPr/>
        </p:nvGrpSpPr>
        <p:grpSpPr>
          <a:xfrm>
            <a:off x="7010280" y="2666880"/>
            <a:ext cx="762120" cy="1600200"/>
            <a:chOff x="7010280" y="2666880"/>
            <a:chExt cx="762120" cy="1600200"/>
          </a:xfrm>
        </p:grpSpPr>
        <p:sp>
          <p:nvSpPr>
            <p:cNvPr id="1696" name="Rectangle 8"/>
            <p:cNvSpPr/>
            <p:nvPr/>
          </p:nvSpPr>
          <p:spPr>
            <a:xfrm>
              <a:off x="7315200" y="3429000"/>
              <a:ext cx="15228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7" name="AutoShape 9"/>
            <p:cNvSpPr/>
            <p:nvPr/>
          </p:nvSpPr>
          <p:spPr>
            <a:xfrm>
              <a:off x="7010280" y="2666880"/>
              <a:ext cx="76212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8" name="Group 10"/>
          <p:cNvGrpSpPr/>
          <p:nvPr/>
        </p:nvGrpSpPr>
        <p:grpSpPr>
          <a:xfrm>
            <a:off x="7315200" y="2590920"/>
            <a:ext cx="762120" cy="1600200"/>
            <a:chOff x="7315200" y="2590920"/>
            <a:chExt cx="762120" cy="1600200"/>
          </a:xfrm>
        </p:grpSpPr>
        <p:sp>
          <p:nvSpPr>
            <p:cNvPr id="1699" name="Rectangle 11"/>
            <p:cNvSpPr/>
            <p:nvPr/>
          </p:nvSpPr>
          <p:spPr>
            <a:xfrm>
              <a:off x="7620120" y="3353040"/>
              <a:ext cx="15228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0" name="AutoShape 12"/>
            <p:cNvSpPr/>
            <p:nvPr/>
          </p:nvSpPr>
          <p:spPr>
            <a:xfrm>
              <a:off x="7315200" y="2590920"/>
              <a:ext cx="76212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1" name="Group 13"/>
          <p:cNvGrpSpPr/>
          <p:nvPr/>
        </p:nvGrpSpPr>
        <p:grpSpPr>
          <a:xfrm>
            <a:off x="7620120" y="2514600"/>
            <a:ext cx="761760" cy="1600200"/>
            <a:chOff x="7620120" y="2514600"/>
            <a:chExt cx="761760" cy="1600200"/>
          </a:xfrm>
        </p:grpSpPr>
        <p:sp>
          <p:nvSpPr>
            <p:cNvPr id="1702" name="Rectangle 14"/>
            <p:cNvSpPr/>
            <p:nvPr/>
          </p:nvSpPr>
          <p:spPr>
            <a:xfrm>
              <a:off x="7924680" y="3276720"/>
              <a:ext cx="15192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3" name="AutoShape 15"/>
            <p:cNvSpPr/>
            <p:nvPr/>
          </p:nvSpPr>
          <p:spPr>
            <a:xfrm>
              <a:off x="7620120" y="2514600"/>
              <a:ext cx="76176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4" name="Group 16"/>
          <p:cNvGrpSpPr/>
          <p:nvPr/>
        </p:nvGrpSpPr>
        <p:grpSpPr>
          <a:xfrm>
            <a:off x="7924680" y="2438280"/>
            <a:ext cx="762120" cy="1600200"/>
            <a:chOff x="7924680" y="2438280"/>
            <a:chExt cx="762120" cy="1600200"/>
          </a:xfrm>
        </p:grpSpPr>
        <p:sp>
          <p:nvSpPr>
            <p:cNvPr id="1705" name="Rectangle 17"/>
            <p:cNvSpPr/>
            <p:nvPr/>
          </p:nvSpPr>
          <p:spPr>
            <a:xfrm>
              <a:off x="8229600" y="3200400"/>
              <a:ext cx="15228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6" name="AutoShape 18"/>
            <p:cNvSpPr/>
            <p:nvPr/>
          </p:nvSpPr>
          <p:spPr>
            <a:xfrm>
              <a:off x="7924680" y="2438280"/>
              <a:ext cx="76212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7" name="Group 19"/>
          <p:cNvGrpSpPr/>
          <p:nvPr/>
        </p:nvGrpSpPr>
        <p:grpSpPr>
          <a:xfrm>
            <a:off x="8229600" y="2362320"/>
            <a:ext cx="762120" cy="1600200"/>
            <a:chOff x="8229600" y="2362320"/>
            <a:chExt cx="762120" cy="1600200"/>
          </a:xfrm>
        </p:grpSpPr>
        <p:sp>
          <p:nvSpPr>
            <p:cNvPr id="1708" name="Rectangle 20"/>
            <p:cNvSpPr/>
            <p:nvPr/>
          </p:nvSpPr>
          <p:spPr>
            <a:xfrm>
              <a:off x="8534520" y="3124440"/>
              <a:ext cx="15228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9" name="AutoShape 21"/>
            <p:cNvSpPr/>
            <p:nvPr/>
          </p:nvSpPr>
          <p:spPr>
            <a:xfrm>
              <a:off x="8229600" y="2362320"/>
              <a:ext cx="76212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0" name="Rectangle 22"/>
          <p:cNvSpPr/>
          <p:nvPr/>
        </p:nvSpPr>
        <p:spPr>
          <a:xfrm>
            <a:off x="4438800" y="175248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tm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Rectangle 23"/>
          <p:cNvSpPr/>
          <p:nvPr/>
        </p:nvSpPr>
        <p:spPr>
          <a:xfrm>
            <a:off x="881640" y="56386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ydr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Rectangle 24"/>
          <p:cNvSpPr/>
          <p:nvPr/>
        </p:nvSpPr>
        <p:spPr>
          <a:xfrm>
            <a:off x="7027920" y="54100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th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Rectangle 25"/>
          <p:cNvSpPr/>
          <p:nvPr/>
        </p:nvSpPr>
        <p:spPr>
          <a:xfrm>
            <a:off x="7383240" y="281952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AutoShape 26"/>
          <p:cNvSpPr/>
          <p:nvPr/>
        </p:nvSpPr>
        <p:spPr>
          <a:xfrm>
            <a:off x="3124080" y="5410080"/>
            <a:ext cx="1067040" cy="228600"/>
          </a:xfrm>
          <a:prstGeom prst="cloudCallout">
            <a:avLst>
              <a:gd name="adj1" fmla="val 7439"/>
              <a:gd name="adj2" fmla="val 13194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5" name="Group 44"/>
          <p:cNvGrpSpPr/>
          <p:nvPr/>
        </p:nvGrpSpPr>
        <p:grpSpPr>
          <a:xfrm>
            <a:off x="5410080" y="2209680"/>
            <a:ext cx="2183760" cy="1067040"/>
            <a:chOff x="5410080" y="2209680"/>
            <a:chExt cx="2183760" cy="1067040"/>
          </a:xfrm>
        </p:grpSpPr>
        <p:sp>
          <p:nvSpPr>
            <p:cNvPr id="1716" name="Line 29"/>
            <p:cNvSpPr/>
            <p:nvPr/>
          </p:nvSpPr>
          <p:spPr>
            <a:xfrm flipH="1" flipV="1">
              <a:off x="5410080" y="2209680"/>
              <a:ext cx="1905120" cy="10670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7" name="Rectangle 34"/>
            <p:cNvSpPr/>
            <p:nvPr/>
          </p:nvSpPr>
          <p:spPr>
            <a:xfrm>
              <a:off x="6160320" y="2362320"/>
              <a:ext cx="14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hotosynthesi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18" name="Group 43"/>
          <p:cNvGrpSpPr/>
          <p:nvPr/>
        </p:nvGrpSpPr>
        <p:grpSpPr>
          <a:xfrm>
            <a:off x="6095880" y="1828800"/>
            <a:ext cx="2590920" cy="838080"/>
            <a:chOff x="6095880" y="1828800"/>
            <a:chExt cx="2590920" cy="838080"/>
          </a:xfrm>
        </p:grpSpPr>
        <p:sp>
          <p:nvSpPr>
            <p:cNvPr id="1719" name="Line 27"/>
            <p:cNvSpPr/>
            <p:nvPr/>
          </p:nvSpPr>
          <p:spPr>
            <a:xfrm>
              <a:off x="6095880" y="1905120"/>
              <a:ext cx="2590920" cy="7617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0" name="Rectangle 35"/>
            <p:cNvSpPr/>
            <p:nvPr/>
          </p:nvSpPr>
          <p:spPr>
            <a:xfrm>
              <a:off x="6870240" y="1828800"/>
              <a:ext cx="180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Respiration&amp; Deca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bon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Freeform 3"/>
          <p:cNvSpPr/>
          <p:nvPr/>
        </p:nvSpPr>
        <p:spPr>
          <a:xfrm>
            <a:off x="1211400" y="3809880"/>
            <a:ext cx="7932600" cy="2806920"/>
          </a:xfrm>
          <a:prstGeom prst="pie">
            <a:avLst/>
          </a:prstGeom>
          <a:solidFill>
            <a:srgbClr val="d2a9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Freeform 4"/>
          <p:cNvSpPr/>
          <p:nvPr/>
        </p:nvSpPr>
        <p:spPr>
          <a:xfrm>
            <a:off x="0" y="5181480"/>
            <a:ext cx="5486400" cy="144792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AutoShape 5"/>
          <p:cNvSpPr/>
          <p:nvPr/>
        </p:nvSpPr>
        <p:spPr>
          <a:xfrm>
            <a:off x="2209680" y="1676520"/>
            <a:ext cx="1828800" cy="1066680"/>
          </a:xfrm>
          <a:prstGeom prst="cloudCallout">
            <a:avLst>
              <a:gd name="adj1" fmla="val -46875"/>
              <a:gd name="adj2" fmla="val 18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AutoShape 6"/>
          <p:cNvSpPr/>
          <p:nvPr/>
        </p:nvSpPr>
        <p:spPr>
          <a:xfrm>
            <a:off x="685800" y="1828800"/>
            <a:ext cx="1828800" cy="1066680"/>
          </a:xfrm>
          <a:prstGeom prst="cloudCallout">
            <a:avLst>
              <a:gd name="adj1" fmla="val -46875"/>
              <a:gd name="adj2" fmla="val 18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6" name="Group 7"/>
          <p:cNvGrpSpPr/>
          <p:nvPr/>
        </p:nvGrpSpPr>
        <p:grpSpPr>
          <a:xfrm>
            <a:off x="7010280" y="2666880"/>
            <a:ext cx="762120" cy="1600200"/>
            <a:chOff x="7010280" y="2666880"/>
            <a:chExt cx="762120" cy="1600200"/>
          </a:xfrm>
        </p:grpSpPr>
        <p:sp>
          <p:nvSpPr>
            <p:cNvPr id="1727" name="Rectangle 8"/>
            <p:cNvSpPr/>
            <p:nvPr/>
          </p:nvSpPr>
          <p:spPr>
            <a:xfrm>
              <a:off x="7315200" y="3429000"/>
              <a:ext cx="15228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8" name="AutoShape 9"/>
            <p:cNvSpPr/>
            <p:nvPr/>
          </p:nvSpPr>
          <p:spPr>
            <a:xfrm>
              <a:off x="7010280" y="2666880"/>
              <a:ext cx="76212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9" name="Group 10"/>
          <p:cNvGrpSpPr/>
          <p:nvPr/>
        </p:nvGrpSpPr>
        <p:grpSpPr>
          <a:xfrm>
            <a:off x="7315200" y="2590920"/>
            <a:ext cx="762120" cy="1600200"/>
            <a:chOff x="7315200" y="2590920"/>
            <a:chExt cx="762120" cy="1600200"/>
          </a:xfrm>
        </p:grpSpPr>
        <p:sp>
          <p:nvSpPr>
            <p:cNvPr id="1730" name="Rectangle 11"/>
            <p:cNvSpPr/>
            <p:nvPr/>
          </p:nvSpPr>
          <p:spPr>
            <a:xfrm>
              <a:off x="7620120" y="3353040"/>
              <a:ext cx="15228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1" name="AutoShape 12"/>
            <p:cNvSpPr/>
            <p:nvPr/>
          </p:nvSpPr>
          <p:spPr>
            <a:xfrm>
              <a:off x="7315200" y="2590920"/>
              <a:ext cx="76212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2" name="Group 13"/>
          <p:cNvGrpSpPr/>
          <p:nvPr/>
        </p:nvGrpSpPr>
        <p:grpSpPr>
          <a:xfrm>
            <a:off x="7620120" y="2514600"/>
            <a:ext cx="761760" cy="1600200"/>
            <a:chOff x="7620120" y="2514600"/>
            <a:chExt cx="761760" cy="1600200"/>
          </a:xfrm>
        </p:grpSpPr>
        <p:sp>
          <p:nvSpPr>
            <p:cNvPr id="1733" name="Rectangle 14"/>
            <p:cNvSpPr/>
            <p:nvPr/>
          </p:nvSpPr>
          <p:spPr>
            <a:xfrm>
              <a:off x="7924680" y="3276720"/>
              <a:ext cx="15192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4" name="AutoShape 15"/>
            <p:cNvSpPr/>
            <p:nvPr/>
          </p:nvSpPr>
          <p:spPr>
            <a:xfrm>
              <a:off x="7620120" y="2514600"/>
              <a:ext cx="76176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5" name="Group 16"/>
          <p:cNvGrpSpPr/>
          <p:nvPr/>
        </p:nvGrpSpPr>
        <p:grpSpPr>
          <a:xfrm>
            <a:off x="7924680" y="2438280"/>
            <a:ext cx="762120" cy="1600200"/>
            <a:chOff x="7924680" y="2438280"/>
            <a:chExt cx="762120" cy="1600200"/>
          </a:xfrm>
        </p:grpSpPr>
        <p:sp>
          <p:nvSpPr>
            <p:cNvPr id="1736" name="Rectangle 17"/>
            <p:cNvSpPr/>
            <p:nvPr/>
          </p:nvSpPr>
          <p:spPr>
            <a:xfrm>
              <a:off x="8229600" y="3200400"/>
              <a:ext cx="15228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7" name="AutoShape 18"/>
            <p:cNvSpPr/>
            <p:nvPr/>
          </p:nvSpPr>
          <p:spPr>
            <a:xfrm>
              <a:off x="7924680" y="2438280"/>
              <a:ext cx="76212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8" name="Group 19"/>
          <p:cNvGrpSpPr/>
          <p:nvPr/>
        </p:nvGrpSpPr>
        <p:grpSpPr>
          <a:xfrm>
            <a:off x="8229600" y="2362320"/>
            <a:ext cx="762120" cy="1600200"/>
            <a:chOff x="8229600" y="2362320"/>
            <a:chExt cx="762120" cy="1600200"/>
          </a:xfrm>
        </p:grpSpPr>
        <p:sp>
          <p:nvSpPr>
            <p:cNvPr id="1739" name="Rectangle 20"/>
            <p:cNvSpPr/>
            <p:nvPr/>
          </p:nvSpPr>
          <p:spPr>
            <a:xfrm>
              <a:off x="8534520" y="3124440"/>
              <a:ext cx="15228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0" name="AutoShape 21"/>
            <p:cNvSpPr/>
            <p:nvPr/>
          </p:nvSpPr>
          <p:spPr>
            <a:xfrm>
              <a:off x="8229600" y="2362320"/>
              <a:ext cx="76212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1" name="Rectangle 22"/>
          <p:cNvSpPr/>
          <p:nvPr/>
        </p:nvSpPr>
        <p:spPr>
          <a:xfrm>
            <a:off x="4438800" y="175248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tm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Rectangle 23"/>
          <p:cNvSpPr/>
          <p:nvPr/>
        </p:nvSpPr>
        <p:spPr>
          <a:xfrm>
            <a:off x="881640" y="56386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ydr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Rectangle 24"/>
          <p:cNvSpPr/>
          <p:nvPr/>
        </p:nvSpPr>
        <p:spPr>
          <a:xfrm>
            <a:off x="7027920" y="54100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th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Rectangle 25"/>
          <p:cNvSpPr/>
          <p:nvPr/>
        </p:nvSpPr>
        <p:spPr>
          <a:xfrm>
            <a:off x="7383240" y="281952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AutoShape 26"/>
          <p:cNvSpPr/>
          <p:nvPr/>
        </p:nvSpPr>
        <p:spPr>
          <a:xfrm>
            <a:off x="3124080" y="5410080"/>
            <a:ext cx="1067040" cy="228600"/>
          </a:xfrm>
          <a:prstGeom prst="cloudCallout">
            <a:avLst>
              <a:gd name="adj1" fmla="val 7439"/>
              <a:gd name="adj2" fmla="val 13194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6" name="Group 27"/>
          <p:cNvGrpSpPr/>
          <p:nvPr/>
        </p:nvGrpSpPr>
        <p:grpSpPr>
          <a:xfrm>
            <a:off x="5410080" y="2209680"/>
            <a:ext cx="2183760" cy="1067040"/>
            <a:chOff x="5410080" y="2209680"/>
            <a:chExt cx="2183760" cy="1067040"/>
          </a:xfrm>
        </p:grpSpPr>
        <p:sp>
          <p:nvSpPr>
            <p:cNvPr id="1747" name="Line 28"/>
            <p:cNvSpPr/>
            <p:nvPr/>
          </p:nvSpPr>
          <p:spPr>
            <a:xfrm flipH="1" flipV="1">
              <a:off x="5410080" y="2209680"/>
              <a:ext cx="1905120" cy="10670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8" name="Rectangle 29"/>
            <p:cNvSpPr/>
            <p:nvPr/>
          </p:nvSpPr>
          <p:spPr>
            <a:xfrm>
              <a:off x="6160320" y="2362320"/>
              <a:ext cx="14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hotosynthesi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9" name="Group 30"/>
          <p:cNvGrpSpPr/>
          <p:nvPr/>
        </p:nvGrpSpPr>
        <p:grpSpPr>
          <a:xfrm>
            <a:off x="6095880" y="1828800"/>
            <a:ext cx="2590920" cy="838080"/>
            <a:chOff x="6095880" y="1828800"/>
            <a:chExt cx="2590920" cy="838080"/>
          </a:xfrm>
        </p:grpSpPr>
        <p:sp>
          <p:nvSpPr>
            <p:cNvPr id="1750" name="Line 31"/>
            <p:cNvSpPr/>
            <p:nvPr/>
          </p:nvSpPr>
          <p:spPr>
            <a:xfrm>
              <a:off x="6095880" y="1905120"/>
              <a:ext cx="2590920" cy="7617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1" name="Rectangle 32"/>
            <p:cNvSpPr/>
            <p:nvPr/>
          </p:nvSpPr>
          <p:spPr>
            <a:xfrm>
              <a:off x="6870240" y="1828800"/>
              <a:ext cx="180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Respiration&amp; Deca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2" name="Group 33"/>
          <p:cNvGrpSpPr/>
          <p:nvPr/>
        </p:nvGrpSpPr>
        <p:grpSpPr>
          <a:xfrm>
            <a:off x="7619760" y="3352680"/>
            <a:ext cx="1499760" cy="2133720"/>
            <a:chOff x="7619760" y="3352680"/>
            <a:chExt cx="1499760" cy="2133720"/>
          </a:xfrm>
        </p:grpSpPr>
        <p:sp>
          <p:nvSpPr>
            <p:cNvPr id="1753" name="Line 34"/>
            <p:cNvSpPr/>
            <p:nvPr/>
          </p:nvSpPr>
          <p:spPr>
            <a:xfrm flipH="1">
              <a:off x="7619760" y="3352680"/>
              <a:ext cx="609480" cy="21337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4" name="Rectangle 35"/>
            <p:cNvSpPr/>
            <p:nvPr/>
          </p:nvSpPr>
          <p:spPr>
            <a:xfrm>
              <a:off x="7967880" y="4648320"/>
              <a:ext cx="1151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urial &amp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Lithific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5" name="Group 36"/>
          <p:cNvGrpSpPr/>
          <p:nvPr/>
        </p:nvGrpSpPr>
        <p:grpSpPr>
          <a:xfrm>
            <a:off x="4833720" y="2286000"/>
            <a:ext cx="1947960" cy="3200400"/>
            <a:chOff x="4833720" y="2286000"/>
            <a:chExt cx="1947960" cy="3200400"/>
          </a:xfrm>
        </p:grpSpPr>
        <p:sp>
          <p:nvSpPr>
            <p:cNvPr id="1756" name="Line 37"/>
            <p:cNvSpPr/>
            <p:nvPr/>
          </p:nvSpPr>
          <p:spPr>
            <a:xfrm flipH="1" flipV="1">
              <a:off x="4952880" y="2286000"/>
              <a:ext cx="1828800" cy="32004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7" name="Rectangle 38"/>
            <p:cNvSpPr/>
            <p:nvPr/>
          </p:nvSpPr>
          <p:spPr>
            <a:xfrm>
              <a:off x="4833720" y="3990960"/>
              <a:ext cx="1211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Weather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&amp; Volcanis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8" name="Group 39"/>
          <p:cNvGrpSpPr/>
          <p:nvPr/>
        </p:nvGrpSpPr>
        <p:grpSpPr>
          <a:xfrm>
            <a:off x="1792440" y="2286000"/>
            <a:ext cx="2855880" cy="3200400"/>
            <a:chOff x="1792440" y="2286000"/>
            <a:chExt cx="2855880" cy="3200400"/>
          </a:xfrm>
        </p:grpSpPr>
        <p:sp>
          <p:nvSpPr>
            <p:cNvPr id="1759" name="Line 40"/>
            <p:cNvSpPr/>
            <p:nvPr/>
          </p:nvSpPr>
          <p:spPr>
            <a:xfrm flipH="1">
              <a:off x="1905120" y="2286000"/>
              <a:ext cx="2743200" cy="32004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0" name="Rectangle 41"/>
            <p:cNvSpPr/>
            <p:nvPr/>
          </p:nvSpPr>
          <p:spPr>
            <a:xfrm>
              <a:off x="1792440" y="3962520"/>
              <a:ext cx="109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issolu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1" name="Group 42"/>
          <p:cNvGrpSpPr/>
          <p:nvPr/>
        </p:nvGrpSpPr>
        <p:grpSpPr>
          <a:xfrm>
            <a:off x="2438280" y="5486040"/>
            <a:ext cx="1802520" cy="458280"/>
            <a:chOff x="2438280" y="5486040"/>
            <a:chExt cx="1802520" cy="458280"/>
          </a:xfrm>
        </p:grpSpPr>
        <p:sp>
          <p:nvSpPr>
            <p:cNvPr id="1762" name="Line 43"/>
            <p:cNvSpPr/>
            <p:nvPr/>
          </p:nvSpPr>
          <p:spPr>
            <a:xfrm flipV="1">
              <a:off x="2438280" y="5486040"/>
              <a:ext cx="1067040" cy="2286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3" name="Rectangle 44"/>
            <p:cNvSpPr/>
            <p:nvPr/>
          </p:nvSpPr>
          <p:spPr>
            <a:xfrm>
              <a:off x="2807280" y="5607000"/>
              <a:ext cx="14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2009b"/>
                  </a:solidFill>
                  <a:latin typeface="Calibri"/>
                </a:rPr>
                <a:t>Photosynthesi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4" name="Group 45"/>
          <p:cNvGrpSpPr/>
          <p:nvPr/>
        </p:nvGrpSpPr>
        <p:grpSpPr>
          <a:xfrm>
            <a:off x="3657600" y="5486400"/>
            <a:ext cx="3048120" cy="961560"/>
            <a:chOff x="3657600" y="5486400"/>
            <a:chExt cx="3048120" cy="961560"/>
          </a:xfrm>
        </p:grpSpPr>
        <p:sp>
          <p:nvSpPr>
            <p:cNvPr id="1765" name="Line 46"/>
            <p:cNvSpPr/>
            <p:nvPr/>
          </p:nvSpPr>
          <p:spPr>
            <a:xfrm>
              <a:off x="3657600" y="5486400"/>
              <a:ext cx="3048120" cy="53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6" name="Rectangle 47"/>
            <p:cNvSpPr/>
            <p:nvPr/>
          </p:nvSpPr>
          <p:spPr>
            <a:xfrm>
              <a:off x="5053320" y="5867280"/>
              <a:ext cx="1151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urial &amp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Lithific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7" name="Group 48"/>
          <p:cNvGrpSpPr/>
          <p:nvPr/>
        </p:nvGrpSpPr>
        <p:grpSpPr>
          <a:xfrm>
            <a:off x="2057400" y="2438280"/>
            <a:ext cx="2743200" cy="3200400"/>
            <a:chOff x="2057400" y="2438280"/>
            <a:chExt cx="2743200" cy="3200400"/>
          </a:xfrm>
        </p:grpSpPr>
        <p:sp>
          <p:nvSpPr>
            <p:cNvPr id="1768" name="Line 49"/>
            <p:cNvSpPr/>
            <p:nvPr/>
          </p:nvSpPr>
          <p:spPr>
            <a:xfrm flipH="1">
              <a:off x="2057400" y="2438280"/>
              <a:ext cx="2743200" cy="32004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9" name="Rectangle 50"/>
            <p:cNvSpPr/>
            <p:nvPr/>
          </p:nvSpPr>
          <p:spPr>
            <a:xfrm>
              <a:off x="3133080" y="438768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xsolu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bon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Freeform 3"/>
          <p:cNvSpPr/>
          <p:nvPr/>
        </p:nvSpPr>
        <p:spPr>
          <a:xfrm>
            <a:off x="1211400" y="3809880"/>
            <a:ext cx="7932600" cy="2806920"/>
          </a:xfrm>
          <a:prstGeom prst="pie">
            <a:avLst/>
          </a:prstGeom>
          <a:solidFill>
            <a:srgbClr val="d2a9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Freeform 4"/>
          <p:cNvSpPr/>
          <p:nvPr/>
        </p:nvSpPr>
        <p:spPr>
          <a:xfrm>
            <a:off x="0" y="5181480"/>
            <a:ext cx="5486400" cy="144792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AutoShape 5"/>
          <p:cNvSpPr/>
          <p:nvPr/>
        </p:nvSpPr>
        <p:spPr>
          <a:xfrm>
            <a:off x="2209680" y="1676520"/>
            <a:ext cx="1828800" cy="1066680"/>
          </a:xfrm>
          <a:prstGeom prst="cloudCallout">
            <a:avLst>
              <a:gd name="adj1" fmla="val -46875"/>
              <a:gd name="adj2" fmla="val 18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AutoShape 6"/>
          <p:cNvSpPr/>
          <p:nvPr/>
        </p:nvSpPr>
        <p:spPr>
          <a:xfrm>
            <a:off x="685800" y="1828800"/>
            <a:ext cx="1828800" cy="1066680"/>
          </a:xfrm>
          <a:prstGeom prst="cloudCallout">
            <a:avLst>
              <a:gd name="adj1" fmla="val -46875"/>
              <a:gd name="adj2" fmla="val 18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Rectangle 8"/>
          <p:cNvSpPr/>
          <p:nvPr/>
        </p:nvSpPr>
        <p:spPr>
          <a:xfrm>
            <a:off x="7315200" y="3429000"/>
            <a:ext cx="152280" cy="8380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AutoShape 9"/>
          <p:cNvSpPr/>
          <p:nvPr/>
        </p:nvSpPr>
        <p:spPr>
          <a:xfrm>
            <a:off x="7010280" y="2666880"/>
            <a:ext cx="762120" cy="1067040"/>
          </a:xfrm>
          <a:prstGeom prst="cloudCallout">
            <a:avLst>
              <a:gd name="adj1" fmla="val 3333"/>
              <a:gd name="adj2" fmla="val 12055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Rectangle 11"/>
          <p:cNvSpPr/>
          <p:nvPr/>
        </p:nvSpPr>
        <p:spPr>
          <a:xfrm>
            <a:off x="7620120" y="3352680"/>
            <a:ext cx="152280" cy="8384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AutoShape 12"/>
          <p:cNvSpPr/>
          <p:nvPr/>
        </p:nvSpPr>
        <p:spPr>
          <a:xfrm>
            <a:off x="7315200" y="2590920"/>
            <a:ext cx="762120" cy="1066680"/>
          </a:xfrm>
          <a:prstGeom prst="cloudCallout">
            <a:avLst>
              <a:gd name="adj1" fmla="val 3333"/>
              <a:gd name="adj2" fmla="val 12055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Rectangle 14"/>
          <p:cNvSpPr/>
          <p:nvPr/>
        </p:nvSpPr>
        <p:spPr>
          <a:xfrm>
            <a:off x="7924680" y="3276720"/>
            <a:ext cx="152640" cy="8380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AutoShape 15"/>
          <p:cNvSpPr/>
          <p:nvPr/>
        </p:nvSpPr>
        <p:spPr>
          <a:xfrm>
            <a:off x="7620120" y="2514600"/>
            <a:ext cx="761760" cy="1066680"/>
          </a:xfrm>
          <a:prstGeom prst="cloudCallout">
            <a:avLst>
              <a:gd name="adj1" fmla="val 3333"/>
              <a:gd name="adj2" fmla="val 12055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Rectangle 17"/>
          <p:cNvSpPr/>
          <p:nvPr/>
        </p:nvSpPr>
        <p:spPr>
          <a:xfrm>
            <a:off x="8229600" y="3200400"/>
            <a:ext cx="152280" cy="8380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AutoShape 18"/>
          <p:cNvSpPr/>
          <p:nvPr/>
        </p:nvSpPr>
        <p:spPr>
          <a:xfrm>
            <a:off x="7924680" y="2438280"/>
            <a:ext cx="762120" cy="1067040"/>
          </a:xfrm>
          <a:prstGeom prst="cloudCallout">
            <a:avLst>
              <a:gd name="adj1" fmla="val 3333"/>
              <a:gd name="adj2" fmla="val 12055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Rectangle 20"/>
          <p:cNvSpPr/>
          <p:nvPr/>
        </p:nvSpPr>
        <p:spPr>
          <a:xfrm>
            <a:off x="8534520" y="3124080"/>
            <a:ext cx="152280" cy="8384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AutoShape 21"/>
          <p:cNvSpPr/>
          <p:nvPr/>
        </p:nvSpPr>
        <p:spPr>
          <a:xfrm>
            <a:off x="8229600" y="2362320"/>
            <a:ext cx="762120" cy="1066680"/>
          </a:xfrm>
          <a:prstGeom prst="cloudCallout">
            <a:avLst>
              <a:gd name="adj1" fmla="val 3333"/>
              <a:gd name="adj2" fmla="val 12055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Rectangle 22"/>
          <p:cNvSpPr/>
          <p:nvPr/>
        </p:nvSpPr>
        <p:spPr>
          <a:xfrm>
            <a:off x="4438800" y="175248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tm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Rectangle 23"/>
          <p:cNvSpPr/>
          <p:nvPr/>
        </p:nvSpPr>
        <p:spPr>
          <a:xfrm>
            <a:off x="881640" y="56386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ydr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Rectangle 24"/>
          <p:cNvSpPr/>
          <p:nvPr/>
        </p:nvSpPr>
        <p:spPr>
          <a:xfrm>
            <a:off x="7027920" y="54100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th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Rectangle 25"/>
          <p:cNvSpPr/>
          <p:nvPr/>
        </p:nvSpPr>
        <p:spPr>
          <a:xfrm>
            <a:off x="7383240" y="281952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AutoShape 26"/>
          <p:cNvSpPr/>
          <p:nvPr/>
        </p:nvSpPr>
        <p:spPr>
          <a:xfrm>
            <a:off x="3124080" y="5410080"/>
            <a:ext cx="1067040" cy="228600"/>
          </a:xfrm>
          <a:prstGeom prst="cloudCallout">
            <a:avLst>
              <a:gd name="adj1" fmla="val 7439"/>
              <a:gd name="adj2" fmla="val 13194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Line 28"/>
          <p:cNvSpPr/>
          <p:nvPr/>
        </p:nvSpPr>
        <p:spPr>
          <a:xfrm flipH="1" flipV="1">
            <a:off x="5410080" y="2209680"/>
            <a:ext cx="1905120" cy="10670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Line 31"/>
          <p:cNvSpPr/>
          <p:nvPr/>
        </p:nvSpPr>
        <p:spPr>
          <a:xfrm>
            <a:off x="6095880" y="1905120"/>
            <a:ext cx="2590920" cy="76176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Line 34"/>
          <p:cNvSpPr/>
          <p:nvPr/>
        </p:nvSpPr>
        <p:spPr>
          <a:xfrm flipH="1">
            <a:off x="7619760" y="3352680"/>
            <a:ext cx="609480" cy="2133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Line 37"/>
          <p:cNvSpPr/>
          <p:nvPr/>
        </p:nvSpPr>
        <p:spPr>
          <a:xfrm flipH="1" flipV="1">
            <a:off x="4952880" y="2286000"/>
            <a:ext cx="1828800" cy="3200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Line 40"/>
          <p:cNvSpPr/>
          <p:nvPr/>
        </p:nvSpPr>
        <p:spPr>
          <a:xfrm flipH="1">
            <a:off x="1905120" y="2286000"/>
            <a:ext cx="2743200" cy="3200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Line 43"/>
          <p:cNvSpPr/>
          <p:nvPr/>
        </p:nvSpPr>
        <p:spPr>
          <a:xfrm flipV="1">
            <a:off x="2438280" y="5486040"/>
            <a:ext cx="106704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Line 46"/>
          <p:cNvSpPr/>
          <p:nvPr/>
        </p:nvSpPr>
        <p:spPr>
          <a:xfrm>
            <a:off x="3657600" y="5486400"/>
            <a:ext cx="3048120" cy="5335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Line 49"/>
          <p:cNvSpPr/>
          <p:nvPr/>
        </p:nvSpPr>
        <p:spPr>
          <a:xfrm flipH="1">
            <a:off x="2057400" y="2438280"/>
            <a:ext cx="2743200" cy="320040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Rectangle 51"/>
          <p:cNvSpPr/>
          <p:nvPr/>
        </p:nvSpPr>
        <p:spPr>
          <a:xfrm>
            <a:off x="702000" y="533520"/>
            <a:ext cx="91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a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9" name="Group 54"/>
          <p:cNvGrpSpPr/>
          <p:nvPr/>
        </p:nvGrpSpPr>
        <p:grpSpPr>
          <a:xfrm>
            <a:off x="4049640" y="2286000"/>
            <a:ext cx="2732040" cy="3200400"/>
            <a:chOff x="4049640" y="2286000"/>
            <a:chExt cx="2732040" cy="3200400"/>
          </a:xfrm>
        </p:grpSpPr>
        <p:sp>
          <p:nvSpPr>
            <p:cNvPr id="1800" name="Line 52"/>
            <p:cNvSpPr/>
            <p:nvPr/>
          </p:nvSpPr>
          <p:spPr>
            <a:xfrm flipH="1" flipV="1">
              <a:off x="4952880" y="2286000"/>
              <a:ext cx="1828800" cy="320040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1" name="Rectangle 53"/>
            <p:cNvSpPr/>
            <p:nvPr/>
          </p:nvSpPr>
          <p:spPr>
            <a:xfrm>
              <a:off x="4049640" y="3990960"/>
              <a:ext cx="1997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urning fossil fuels: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ncreased combus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2" name="Group 62"/>
          <p:cNvGrpSpPr/>
          <p:nvPr/>
        </p:nvGrpSpPr>
        <p:grpSpPr>
          <a:xfrm>
            <a:off x="5410080" y="1384200"/>
            <a:ext cx="3585960" cy="1892520"/>
            <a:chOff x="5410080" y="1384200"/>
            <a:chExt cx="3585960" cy="1892520"/>
          </a:xfrm>
        </p:grpSpPr>
        <p:sp>
          <p:nvSpPr>
            <p:cNvPr id="1803" name="Line 59"/>
            <p:cNvSpPr/>
            <p:nvPr/>
          </p:nvSpPr>
          <p:spPr>
            <a:xfrm>
              <a:off x="6095880" y="1905120"/>
              <a:ext cx="2590920" cy="761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4" name="Line 60"/>
            <p:cNvSpPr/>
            <p:nvPr/>
          </p:nvSpPr>
          <p:spPr>
            <a:xfrm flipH="1" flipV="1">
              <a:off x="5410080" y="2209680"/>
              <a:ext cx="1905120" cy="1067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5" name="Rectangle 61"/>
            <p:cNvSpPr/>
            <p:nvPr/>
          </p:nvSpPr>
          <p:spPr>
            <a:xfrm>
              <a:off x="6757920" y="1384200"/>
              <a:ext cx="2238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eforestation: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ecrease Photosynthesi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ncrease Respir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6" name="Rectangle 63"/>
          <p:cNvSpPr/>
          <p:nvPr/>
        </p:nvSpPr>
        <p:spPr>
          <a:xfrm>
            <a:off x="652680" y="3200400"/>
            <a:ext cx="191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t Effec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 in Carb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Atm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bon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9" name="Picture 4" descr=""/>
          <p:cNvPicPr/>
          <p:nvPr/>
        </p:nvPicPr>
        <p:blipFill>
          <a:blip r:embed="rId1"/>
          <a:stretch/>
        </p:blipFill>
        <p:spPr>
          <a:xfrm>
            <a:off x="0" y="820800"/>
            <a:ext cx="91440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Rectangle 2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Text Box 4"/>
          <p:cNvSpPr/>
          <p:nvPr/>
        </p:nvSpPr>
        <p:spPr>
          <a:xfrm>
            <a:off x="1066680" y="129528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ajor components of aquatic ecosystem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Text Box 6"/>
          <p:cNvSpPr/>
          <p:nvPr/>
        </p:nvSpPr>
        <p:spPr>
          <a:xfrm>
            <a:off x="1447920" y="5943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4–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3" name="Picture 7" descr="M04_10"/>
          <p:cNvPicPr/>
          <p:nvPr/>
        </p:nvPicPr>
        <p:blipFill>
          <a:blip r:embed="rId1"/>
          <a:stretch/>
        </p:blipFill>
        <p:spPr>
          <a:xfrm>
            <a:off x="1447920" y="1905120"/>
            <a:ext cx="5943600" cy="405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Rectangle 2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Text Box 4"/>
          <p:cNvSpPr/>
          <p:nvPr/>
        </p:nvSpPr>
        <p:spPr>
          <a:xfrm>
            <a:off x="1066680" y="129528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ajor components of terrestrial ecosystem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Text Box 5"/>
          <p:cNvSpPr/>
          <p:nvPr/>
        </p:nvSpPr>
        <p:spPr>
          <a:xfrm>
            <a:off x="1371600" y="5962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4–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7" name="Picture 6" descr="M04_11"/>
          <p:cNvPicPr/>
          <p:nvPr/>
        </p:nvPicPr>
        <p:blipFill>
          <a:blip r:embed="rId1"/>
          <a:srcRect l="0" t="0" r="0" b="667"/>
          <a:stretch/>
        </p:blipFill>
        <p:spPr>
          <a:xfrm>
            <a:off x="990720" y="1905120"/>
            <a:ext cx="6553080" cy="4057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UMAN 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rbon dioxide is added to the atmosphere by human activities – burning fossil fuels (coal and oil).  Carbon dioxide is a greenhouse g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0" name="Picture 2" descr="F:\Lyn Marshmead\Curriculum\2007\Sustainable Community\Housing\Reference Materials\GREENHOUSE%20EFFECT.jpg"/>
          <p:cNvPicPr/>
          <p:nvPr/>
        </p:nvPicPr>
        <p:blipFill>
          <a:blip r:embed="rId1"/>
          <a:stretch/>
        </p:blipFill>
        <p:spPr>
          <a:xfrm>
            <a:off x="0" y="-101520"/>
            <a:ext cx="9144000" cy="69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1" name="Picture 2" descr="F:\Lyn Marshmead\Curriculum\2007\Sustainable Community\Housing\Reference Materials\Greenhouse-Effect1.gif"/>
          <p:cNvPicPr/>
          <p:nvPr/>
        </p:nvPicPr>
        <p:blipFill>
          <a:blip r:embed="rId1"/>
          <a:stretch/>
        </p:blipFill>
        <p:spPr>
          <a:xfrm>
            <a:off x="1714680" y="343080"/>
            <a:ext cx="5643360" cy="60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18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How and in what form does carbon enter and leave the cycl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How do the roles of autotrophs and heterotrophs differ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What are the human impacts on the cycle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1" name="Picture 8" descr="M04_06"/>
          <p:cNvPicPr/>
          <p:nvPr/>
        </p:nvPicPr>
        <p:blipFill>
          <a:blip r:embed="rId1"/>
          <a:stretch/>
        </p:blipFill>
        <p:spPr>
          <a:xfrm>
            <a:off x="3286080" y="1571760"/>
            <a:ext cx="4667400" cy="4628880"/>
          </a:xfrm>
          <a:prstGeom prst="rect">
            <a:avLst/>
          </a:prstGeom>
          <a:ln w="0">
            <a:noFill/>
          </a:ln>
        </p:spPr>
      </p:pic>
      <p:pic>
        <p:nvPicPr>
          <p:cNvPr id="1622" name="Rectangle 9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10760" cy="1158840"/>
          </a:xfrm>
          <a:prstGeom prst="rect">
            <a:avLst/>
          </a:prstGeom>
          <a:ln w="0">
            <a:noFill/>
          </a:ln>
        </p:spPr>
      </p:pic>
      <p:sp>
        <p:nvSpPr>
          <p:cNvPr id="1623" name=""/>
          <p:cNvSpPr txBox="1"/>
          <p:nvPr/>
        </p:nvSpPr>
        <p:spPr>
          <a:xfrm>
            <a:off x="228240" y="19810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Rockwell"/>
              </a:rPr>
              <a:t>Life on Earth depends upon one–way flow of high–quality energy from sun &amp; cycling of crucial element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CYCLING OF CARBON ATOM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Carbon atoms are recycled through the living and non-living parts of an ecosyste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Producers take up carbon dioxide and build this into organic molecules (sugars and starche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Consumers eat this organic matt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Draw a summarised flow chart to indicate the flow movement of carbon atoms in a terrestrial ecosyste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CYCLING OF CARBON ATOM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Carbon is taken up from the atmosphere by plants by photosynthesis.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Because carbon enters the atmosphere, it can move through the atmosphere on a global scal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Basic Carbon cycle: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13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Rectangle 6"/>
          <p:cNvSpPr/>
          <p:nvPr/>
        </p:nvSpPr>
        <p:spPr>
          <a:xfrm>
            <a:off x="2438280" y="137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Carbon Cyc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0" name="Picture 5" descr="http://www.colorado.edu/GeolSci/courses/GEOL1070/chap04/GR000003.JPG"/>
          <p:cNvPicPr/>
          <p:nvPr/>
        </p:nvPicPr>
        <p:blipFill>
          <a:blip r:embed="rId1"/>
          <a:stretch/>
        </p:blipFill>
        <p:spPr>
          <a:xfrm>
            <a:off x="1785960" y="166680"/>
            <a:ext cx="5357880" cy="6765840"/>
          </a:xfrm>
          <a:prstGeom prst="rect">
            <a:avLst/>
          </a:prstGeom>
          <a:ln w="0">
            <a:noFill/>
          </a:ln>
        </p:spPr>
      </p:pic>
      <p:sp>
        <p:nvSpPr>
          <p:cNvPr id="1631" name="Rectangle 7"/>
          <p:cNvSpPr/>
          <p:nvPr/>
        </p:nvSpPr>
        <p:spPr>
          <a:xfrm>
            <a:off x="2454480" y="61506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2" name="Picture 2" descr="FG03_016"/>
          <p:cNvPicPr/>
          <p:nvPr/>
        </p:nvPicPr>
        <p:blipFill>
          <a:blip r:embed="rId1"/>
          <a:stretch/>
        </p:blipFill>
        <p:spPr>
          <a:xfrm>
            <a:off x="0" y="181080"/>
            <a:ext cx="9144000" cy="6676920"/>
          </a:xfrm>
          <a:prstGeom prst="rect">
            <a:avLst/>
          </a:prstGeom>
          <a:ln w="0">
            <a:noFill/>
          </a:ln>
        </p:spPr>
      </p:pic>
      <p:sp>
        <p:nvSpPr>
          <p:cNvPr id="1633" name="Text Box 3"/>
          <p:cNvSpPr/>
          <p:nvPr/>
        </p:nvSpPr>
        <p:spPr>
          <a:xfrm>
            <a:off x="6825600" y="3459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bon Cyc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4" name="Rectangle 2" descr=""/>
          <p:cNvPicPr/>
          <p:nvPr/>
        </p:nvPicPr>
        <p:blipFill>
          <a:blip r:embed="rId1"/>
          <a:stretch/>
        </p:blipFill>
        <p:spPr>
          <a:xfrm>
            <a:off x="49320" y="365040"/>
            <a:ext cx="7710480" cy="860400"/>
          </a:xfrm>
          <a:prstGeom prst="rect">
            <a:avLst/>
          </a:prstGeom>
          <a:ln w="0">
            <a:noFill/>
          </a:ln>
        </p:spPr>
      </p:pic>
      <p:sp>
        <p:nvSpPr>
          <p:cNvPr id="16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609480" indent="-609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Hydrospher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 water layer. Liquid, Ice, Vapo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Lithospher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 Earth’s crust and upper mantle.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 Fossil fuels, minerals, soil chemical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Biospher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 biotic &amp; abiotic factors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bon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Freeform 3"/>
          <p:cNvSpPr/>
          <p:nvPr/>
        </p:nvSpPr>
        <p:spPr>
          <a:xfrm>
            <a:off x="1219320" y="3822840"/>
            <a:ext cx="7932600" cy="2806560"/>
          </a:xfrm>
          <a:prstGeom prst="pie">
            <a:avLst/>
          </a:prstGeom>
          <a:solidFill>
            <a:srgbClr val="d2a9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Freeform 5"/>
          <p:cNvSpPr/>
          <p:nvPr/>
        </p:nvSpPr>
        <p:spPr>
          <a:xfrm>
            <a:off x="0" y="5181480"/>
            <a:ext cx="5486400" cy="144792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AutoShape 6"/>
          <p:cNvSpPr/>
          <p:nvPr/>
        </p:nvSpPr>
        <p:spPr>
          <a:xfrm>
            <a:off x="2209680" y="1676520"/>
            <a:ext cx="1828800" cy="1066680"/>
          </a:xfrm>
          <a:prstGeom prst="cloudCallout">
            <a:avLst>
              <a:gd name="adj1" fmla="val -46875"/>
              <a:gd name="adj2" fmla="val 18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AutoShape 7"/>
          <p:cNvSpPr/>
          <p:nvPr/>
        </p:nvSpPr>
        <p:spPr>
          <a:xfrm>
            <a:off x="685800" y="1828800"/>
            <a:ext cx="1828800" cy="1066680"/>
          </a:xfrm>
          <a:prstGeom prst="cloudCallout">
            <a:avLst>
              <a:gd name="adj1" fmla="val -46875"/>
              <a:gd name="adj2" fmla="val 18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1" name="Group 12"/>
          <p:cNvGrpSpPr/>
          <p:nvPr/>
        </p:nvGrpSpPr>
        <p:grpSpPr>
          <a:xfrm>
            <a:off x="7010280" y="2666880"/>
            <a:ext cx="762120" cy="1600200"/>
            <a:chOff x="7010280" y="2666880"/>
            <a:chExt cx="762120" cy="1600200"/>
          </a:xfrm>
        </p:grpSpPr>
        <p:sp>
          <p:nvSpPr>
            <p:cNvPr id="1642" name="Rectangle 10"/>
            <p:cNvSpPr/>
            <p:nvPr/>
          </p:nvSpPr>
          <p:spPr>
            <a:xfrm>
              <a:off x="7315200" y="3429000"/>
              <a:ext cx="15228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3" name="AutoShape 11"/>
            <p:cNvSpPr/>
            <p:nvPr/>
          </p:nvSpPr>
          <p:spPr>
            <a:xfrm>
              <a:off x="7010280" y="2666880"/>
              <a:ext cx="76212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4" name="Group 13"/>
          <p:cNvGrpSpPr/>
          <p:nvPr/>
        </p:nvGrpSpPr>
        <p:grpSpPr>
          <a:xfrm>
            <a:off x="7315200" y="2590920"/>
            <a:ext cx="762120" cy="1600200"/>
            <a:chOff x="7315200" y="2590920"/>
            <a:chExt cx="762120" cy="1600200"/>
          </a:xfrm>
        </p:grpSpPr>
        <p:sp>
          <p:nvSpPr>
            <p:cNvPr id="1645" name="Rectangle 14"/>
            <p:cNvSpPr/>
            <p:nvPr/>
          </p:nvSpPr>
          <p:spPr>
            <a:xfrm>
              <a:off x="7620120" y="3353040"/>
              <a:ext cx="15228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6" name="AutoShape 15"/>
            <p:cNvSpPr/>
            <p:nvPr/>
          </p:nvSpPr>
          <p:spPr>
            <a:xfrm>
              <a:off x="7315200" y="2590920"/>
              <a:ext cx="76212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7" name="Group 16"/>
          <p:cNvGrpSpPr/>
          <p:nvPr/>
        </p:nvGrpSpPr>
        <p:grpSpPr>
          <a:xfrm>
            <a:off x="7620120" y="2514600"/>
            <a:ext cx="761760" cy="1600200"/>
            <a:chOff x="7620120" y="2514600"/>
            <a:chExt cx="761760" cy="1600200"/>
          </a:xfrm>
        </p:grpSpPr>
        <p:sp>
          <p:nvSpPr>
            <p:cNvPr id="1648" name="Rectangle 17"/>
            <p:cNvSpPr/>
            <p:nvPr/>
          </p:nvSpPr>
          <p:spPr>
            <a:xfrm>
              <a:off x="7924680" y="3276720"/>
              <a:ext cx="15192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9" name="AutoShape 18"/>
            <p:cNvSpPr/>
            <p:nvPr/>
          </p:nvSpPr>
          <p:spPr>
            <a:xfrm>
              <a:off x="7620120" y="2514600"/>
              <a:ext cx="76176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0" name="Group 19"/>
          <p:cNvGrpSpPr/>
          <p:nvPr/>
        </p:nvGrpSpPr>
        <p:grpSpPr>
          <a:xfrm>
            <a:off x="7924680" y="2438280"/>
            <a:ext cx="762120" cy="1600200"/>
            <a:chOff x="7924680" y="2438280"/>
            <a:chExt cx="762120" cy="1600200"/>
          </a:xfrm>
        </p:grpSpPr>
        <p:sp>
          <p:nvSpPr>
            <p:cNvPr id="1651" name="Rectangle 20"/>
            <p:cNvSpPr/>
            <p:nvPr/>
          </p:nvSpPr>
          <p:spPr>
            <a:xfrm>
              <a:off x="8229600" y="3200400"/>
              <a:ext cx="15228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2" name="AutoShape 21"/>
            <p:cNvSpPr/>
            <p:nvPr/>
          </p:nvSpPr>
          <p:spPr>
            <a:xfrm>
              <a:off x="7924680" y="2438280"/>
              <a:ext cx="76212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3" name="Group 22"/>
          <p:cNvGrpSpPr/>
          <p:nvPr/>
        </p:nvGrpSpPr>
        <p:grpSpPr>
          <a:xfrm>
            <a:off x="8229600" y="2362320"/>
            <a:ext cx="762120" cy="1600200"/>
            <a:chOff x="8229600" y="2362320"/>
            <a:chExt cx="762120" cy="1600200"/>
          </a:xfrm>
        </p:grpSpPr>
        <p:sp>
          <p:nvSpPr>
            <p:cNvPr id="1654" name="Rectangle 23"/>
            <p:cNvSpPr/>
            <p:nvPr/>
          </p:nvSpPr>
          <p:spPr>
            <a:xfrm>
              <a:off x="8534520" y="3124440"/>
              <a:ext cx="15228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5" name="AutoShape 24"/>
            <p:cNvSpPr/>
            <p:nvPr/>
          </p:nvSpPr>
          <p:spPr>
            <a:xfrm>
              <a:off x="8229600" y="2362320"/>
              <a:ext cx="76212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6" name="Rectangle 25"/>
          <p:cNvSpPr/>
          <p:nvPr/>
        </p:nvSpPr>
        <p:spPr>
          <a:xfrm>
            <a:off x="4362840" y="182880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tm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Rectangle 26"/>
          <p:cNvSpPr/>
          <p:nvPr/>
        </p:nvSpPr>
        <p:spPr>
          <a:xfrm>
            <a:off x="881640" y="56386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ydr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Rectangle 27"/>
          <p:cNvSpPr/>
          <p:nvPr/>
        </p:nvSpPr>
        <p:spPr>
          <a:xfrm>
            <a:off x="7027920" y="54100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th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Rectangle 28"/>
          <p:cNvSpPr/>
          <p:nvPr/>
        </p:nvSpPr>
        <p:spPr>
          <a:xfrm>
            <a:off x="7383240" y="281952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AutoShape 29"/>
          <p:cNvSpPr/>
          <p:nvPr/>
        </p:nvSpPr>
        <p:spPr>
          <a:xfrm>
            <a:off x="3124080" y="5410080"/>
            <a:ext cx="1067040" cy="228600"/>
          </a:xfrm>
          <a:prstGeom prst="cloudCallout">
            <a:avLst>
              <a:gd name="adj1" fmla="val 7439"/>
              <a:gd name="adj2" fmla="val 13194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bon Cycle: Reservoi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Freeform 3"/>
          <p:cNvSpPr/>
          <p:nvPr/>
        </p:nvSpPr>
        <p:spPr>
          <a:xfrm>
            <a:off x="1219320" y="3822840"/>
            <a:ext cx="7932600" cy="2806560"/>
          </a:xfrm>
          <a:prstGeom prst="pie">
            <a:avLst/>
          </a:prstGeom>
          <a:solidFill>
            <a:srgbClr val="d2a9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Freeform 4"/>
          <p:cNvSpPr/>
          <p:nvPr/>
        </p:nvSpPr>
        <p:spPr>
          <a:xfrm>
            <a:off x="0" y="5181480"/>
            <a:ext cx="5486400" cy="144792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AutoShape 5"/>
          <p:cNvSpPr/>
          <p:nvPr/>
        </p:nvSpPr>
        <p:spPr>
          <a:xfrm>
            <a:off x="2209680" y="1676520"/>
            <a:ext cx="1828800" cy="1066680"/>
          </a:xfrm>
          <a:prstGeom prst="cloudCallout">
            <a:avLst>
              <a:gd name="adj1" fmla="val -46875"/>
              <a:gd name="adj2" fmla="val 18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AutoShape 6"/>
          <p:cNvSpPr/>
          <p:nvPr/>
        </p:nvSpPr>
        <p:spPr>
          <a:xfrm>
            <a:off x="685800" y="1828800"/>
            <a:ext cx="1828800" cy="1066680"/>
          </a:xfrm>
          <a:prstGeom prst="cloudCallout">
            <a:avLst>
              <a:gd name="adj1" fmla="val -46875"/>
              <a:gd name="adj2" fmla="val 18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6" name="Group 7"/>
          <p:cNvGrpSpPr/>
          <p:nvPr/>
        </p:nvGrpSpPr>
        <p:grpSpPr>
          <a:xfrm>
            <a:off x="7010280" y="2666880"/>
            <a:ext cx="762120" cy="1600200"/>
            <a:chOff x="7010280" y="2666880"/>
            <a:chExt cx="762120" cy="1600200"/>
          </a:xfrm>
        </p:grpSpPr>
        <p:sp>
          <p:nvSpPr>
            <p:cNvPr id="1667" name="Rectangle 8"/>
            <p:cNvSpPr/>
            <p:nvPr/>
          </p:nvSpPr>
          <p:spPr>
            <a:xfrm>
              <a:off x="7315200" y="3429000"/>
              <a:ext cx="15228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8" name="AutoShape 9"/>
            <p:cNvSpPr/>
            <p:nvPr/>
          </p:nvSpPr>
          <p:spPr>
            <a:xfrm>
              <a:off x="7010280" y="2666880"/>
              <a:ext cx="76212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9" name="Group 10"/>
          <p:cNvGrpSpPr/>
          <p:nvPr/>
        </p:nvGrpSpPr>
        <p:grpSpPr>
          <a:xfrm>
            <a:off x="7315200" y="2590920"/>
            <a:ext cx="762120" cy="1600200"/>
            <a:chOff x="7315200" y="2590920"/>
            <a:chExt cx="762120" cy="1600200"/>
          </a:xfrm>
        </p:grpSpPr>
        <p:sp>
          <p:nvSpPr>
            <p:cNvPr id="1670" name="Rectangle 11"/>
            <p:cNvSpPr/>
            <p:nvPr/>
          </p:nvSpPr>
          <p:spPr>
            <a:xfrm>
              <a:off x="7620120" y="3353040"/>
              <a:ext cx="15228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1" name="AutoShape 12"/>
            <p:cNvSpPr/>
            <p:nvPr/>
          </p:nvSpPr>
          <p:spPr>
            <a:xfrm>
              <a:off x="7315200" y="2590920"/>
              <a:ext cx="76212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2" name="Group 13"/>
          <p:cNvGrpSpPr/>
          <p:nvPr/>
        </p:nvGrpSpPr>
        <p:grpSpPr>
          <a:xfrm>
            <a:off x="7620120" y="2514600"/>
            <a:ext cx="761760" cy="1600200"/>
            <a:chOff x="7620120" y="2514600"/>
            <a:chExt cx="761760" cy="1600200"/>
          </a:xfrm>
        </p:grpSpPr>
        <p:sp>
          <p:nvSpPr>
            <p:cNvPr id="1673" name="Rectangle 14"/>
            <p:cNvSpPr/>
            <p:nvPr/>
          </p:nvSpPr>
          <p:spPr>
            <a:xfrm>
              <a:off x="7924680" y="3276720"/>
              <a:ext cx="15192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4" name="AutoShape 15"/>
            <p:cNvSpPr/>
            <p:nvPr/>
          </p:nvSpPr>
          <p:spPr>
            <a:xfrm>
              <a:off x="7620120" y="2514600"/>
              <a:ext cx="76176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5" name="Group 16"/>
          <p:cNvGrpSpPr/>
          <p:nvPr/>
        </p:nvGrpSpPr>
        <p:grpSpPr>
          <a:xfrm>
            <a:off x="7924680" y="2438280"/>
            <a:ext cx="762120" cy="1600200"/>
            <a:chOff x="7924680" y="2438280"/>
            <a:chExt cx="762120" cy="1600200"/>
          </a:xfrm>
        </p:grpSpPr>
        <p:sp>
          <p:nvSpPr>
            <p:cNvPr id="1676" name="Rectangle 17"/>
            <p:cNvSpPr/>
            <p:nvPr/>
          </p:nvSpPr>
          <p:spPr>
            <a:xfrm>
              <a:off x="8229600" y="3200400"/>
              <a:ext cx="15228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7" name="AutoShape 18"/>
            <p:cNvSpPr/>
            <p:nvPr/>
          </p:nvSpPr>
          <p:spPr>
            <a:xfrm>
              <a:off x="7924680" y="2438280"/>
              <a:ext cx="76212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8" name="Group 19"/>
          <p:cNvGrpSpPr/>
          <p:nvPr/>
        </p:nvGrpSpPr>
        <p:grpSpPr>
          <a:xfrm>
            <a:off x="8229600" y="2362320"/>
            <a:ext cx="762120" cy="1600200"/>
            <a:chOff x="8229600" y="2362320"/>
            <a:chExt cx="762120" cy="1600200"/>
          </a:xfrm>
        </p:grpSpPr>
        <p:sp>
          <p:nvSpPr>
            <p:cNvPr id="1679" name="Rectangle 20"/>
            <p:cNvSpPr/>
            <p:nvPr/>
          </p:nvSpPr>
          <p:spPr>
            <a:xfrm>
              <a:off x="8534520" y="3124440"/>
              <a:ext cx="15228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0" name="AutoShape 21"/>
            <p:cNvSpPr/>
            <p:nvPr/>
          </p:nvSpPr>
          <p:spPr>
            <a:xfrm>
              <a:off x="8229600" y="2362320"/>
              <a:ext cx="76212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1" name="Rectangle 22"/>
          <p:cNvSpPr/>
          <p:nvPr/>
        </p:nvSpPr>
        <p:spPr>
          <a:xfrm>
            <a:off x="4362840" y="182880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tm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Rectangle 23"/>
          <p:cNvSpPr/>
          <p:nvPr/>
        </p:nvSpPr>
        <p:spPr>
          <a:xfrm>
            <a:off x="881640" y="56386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ydr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Rectangle 24"/>
          <p:cNvSpPr/>
          <p:nvPr/>
        </p:nvSpPr>
        <p:spPr>
          <a:xfrm>
            <a:off x="7027920" y="54100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th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Rectangle 25"/>
          <p:cNvSpPr/>
          <p:nvPr/>
        </p:nvSpPr>
        <p:spPr>
          <a:xfrm>
            <a:off x="7383240" y="281952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AutoShape 26"/>
          <p:cNvSpPr/>
          <p:nvPr/>
        </p:nvSpPr>
        <p:spPr>
          <a:xfrm>
            <a:off x="3124080" y="5410080"/>
            <a:ext cx="1067040" cy="228600"/>
          </a:xfrm>
          <a:prstGeom prst="cloudCallout">
            <a:avLst>
              <a:gd name="adj1" fmla="val 7439"/>
              <a:gd name="adj2" fmla="val 13194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Rectangle 27"/>
          <p:cNvSpPr/>
          <p:nvPr/>
        </p:nvSpPr>
        <p:spPr>
          <a:xfrm>
            <a:off x="4046760" y="2157480"/>
            <a:ext cx="17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= 7.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1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b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Rectangle 28"/>
          <p:cNvSpPr/>
          <p:nvPr/>
        </p:nvSpPr>
        <p:spPr>
          <a:xfrm>
            <a:off x="6760800" y="373392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Rectangle 29"/>
          <p:cNvSpPr/>
          <p:nvPr/>
        </p:nvSpPr>
        <p:spPr>
          <a:xfrm>
            <a:off x="1454040" y="47242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Rectangle 30"/>
          <p:cNvSpPr/>
          <p:nvPr/>
        </p:nvSpPr>
        <p:spPr>
          <a:xfrm>
            <a:off x="7187040" y="50292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5,000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02:48:35Z</dcterms:created>
  <dc:creator>Lyn Clarkson</dc:creator>
  <dc:description/>
  <dc:language>en-US</dc:language>
  <cp:lastModifiedBy>Lyn Clarkson</cp:lastModifiedBy>
  <dcterms:modified xsi:type="dcterms:W3CDTF">2007-10-26T01:27:43Z</dcterms:modified>
  <cp:revision>18</cp:revision>
  <dc:subject/>
  <dc:title>CYCLING OF CARBON ATOMS</dc:title>
</cp:coreProperties>
</file>